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223-D0C8-46E0-8D22-6904A020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783-0A78-41F7-AAE0-57F20760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9A4-1E8C-4DD8-BC16-70D54792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876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80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876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80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E1A-4AC5-44D1-A782-F3BB8AB5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F6F8-0ACA-4A10-8E1E-BC9AD75E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33E3-6B81-49F1-AC3D-2DEECCBE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464A-5694-44DC-A16C-D20C92B1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C233-E4B8-401A-9873-5589AAA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7608-D839-4749-BC3A-E8764E5B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561240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F659-0F2C-4CD3-95B9-8536E6A6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B3C1-30AE-4CDF-A719-8BEA14D3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A3A-4F72-4AC7-92C7-DB37508A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B711-415F-4165-8F57-852F508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59AD-FA3F-4E1C-9B7E-726602DE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58D0-9160-479E-98EC-639EAD39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0AC9-DD67-4F8C-AE0F-3A0D964D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876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680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876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680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7057-A8ED-49E9-9B9C-06649DBA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B9B-CFD4-47A7-89A4-B722F4A0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CEC-C4AB-496A-A140-F633DBEF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FA1-A816-46DD-BFD3-92DCE083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561240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E71-4836-431A-82ED-1404A362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AB6-C7A0-4944-AD49-BDB5A350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609-C16D-472B-9444-7029DD05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A45-6310-4D1B-8271-D6D773E3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EEC3-B6D4-46C2-9A9A-E7AE908AF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041-6F05-4125-BB39-4EAAD883CE42}" type="slidenum">
              <a:rPr b="0" lang="en-US" sz="14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n.wikipedia.org/wiki/File:Burj_Khalifa_building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whm.org/online-exhibits/progressiveera/tenem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4956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97f"/>
                </a:solidFill>
                <a:latin typeface="Times New Roman"/>
              </a:rPr>
              <a:t>6.2:  I.  Problems of Urbanization</a:t>
            </a:r>
            <a:endParaRPr b="0" i="1" lang="en-US" sz="36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7760" y="54097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5050"/>
                </a:solidFill>
                <a:latin typeface="Times New Roman"/>
              </a:rPr>
              <a:t>Rapid growth of American cities lead to promise and problems of urbanization</a:t>
            </a:r>
            <a:endParaRPr b="0" lang="en-US" sz="1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F.  The Family Economy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e working family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14" name="Picture 2" descr="http://4monroes.com/ssmfam10x6.jpg"/>
          <p:cNvPicPr/>
          <p:nvPr/>
        </p:nvPicPr>
        <p:blipFill>
          <a:blip r:embed="rId1"/>
          <a:stretch/>
        </p:blipFill>
        <p:spPr>
          <a:xfrm>
            <a:off x="1959120" y="1905120"/>
            <a:ext cx="6858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G.  Crime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114264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Increase population = increased  crime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Immigrants taken advantage of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Police dept. developed 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17" name="Picture 5" descr="http://ts1.mm.bing.net/images/thumbnail.aspx?q=1289949290332&amp;id=bd25888fa693860eb0b25965ea4f31de&amp;url=http%3a%2f%2fwww.onhgs.org%2fimages%2fwilmpolice1880b.jpg"/>
          <p:cNvPicPr/>
          <p:nvPr/>
        </p:nvPicPr>
        <p:blipFill>
          <a:blip r:embed="rId1"/>
          <a:stretch/>
        </p:blipFill>
        <p:spPr>
          <a:xfrm>
            <a:off x="2209680" y="3249720"/>
            <a:ext cx="5092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immigration4"/>
          <p:cNvPicPr/>
          <p:nvPr/>
        </p:nvPicPr>
        <p:blipFill>
          <a:blip r:embed="rId1"/>
          <a:stretch/>
        </p:blipFill>
        <p:spPr>
          <a:xfrm>
            <a:off x="2133720" y="1295280"/>
            <a:ext cx="4787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I.  Sanitation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Garbage on street a health  concer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1895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21" name="Picture 5" descr="http://www.banhdc.org/images/ch-hist-19711000-02.jpg"/>
          <p:cNvPicPr/>
          <p:nvPr/>
        </p:nvPicPr>
        <p:blipFill>
          <a:blip r:embed="rId1"/>
          <a:stretch/>
        </p:blipFill>
        <p:spPr>
          <a:xfrm>
            <a:off x="5235480" y="1981080"/>
            <a:ext cx="3886200" cy="298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Riss.WAringBeforeAfter.jpg"/>
          <p:cNvPicPr/>
          <p:nvPr/>
        </p:nvPicPr>
        <p:blipFill>
          <a:blip r:embed="rId2"/>
          <a:stretch/>
        </p:blipFill>
        <p:spPr>
          <a:xfrm>
            <a:off x="22320" y="4038480"/>
            <a:ext cx="5638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J.  Water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Needed to be clean and accessible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hlorination and filtratio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limits spread of disease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25" name="Picture 5" descr="http://ts2.mm.bing.net/images/thumbnail.aspx?q=1326868137949&amp;id=bb32735231b2798f2cae0ac15e9c68af&amp;url=http%3a%2f%2f5magazine.files.wordpress.com%2f2011%2f01%2fglass_of_alkaline_water_500x.jpg"/>
          <p:cNvPicPr/>
          <p:nvPr/>
        </p:nvPicPr>
        <p:blipFill>
          <a:blip r:embed="rId1"/>
          <a:stretch/>
        </p:blipFill>
        <p:spPr>
          <a:xfrm>
            <a:off x="2362320" y="3505320"/>
            <a:ext cx="4452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44956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97f"/>
                </a:solidFill>
                <a:latin typeface="Times New Roman"/>
              </a:rPr>
              <a:t>II.  Political Machines…</a:t>
            </a:r>
            <a:endParaRPr b="0" i="1" lang="en-US" sz="44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776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are running the cities”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A.  Political Machine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Informal political group designed to gain and keep power.  Ran by a “party boss”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ammany Hall:  NY Democratic political machine led by “Boss” Tweed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Graft: took bribe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Political Machine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Helped government               officials/themselves                                 get elected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Helped immigrants                                   get jobs, homes in                                 return for vote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32" name="Picture 5" descr="02%20Thats%20Whats%20the%20Matter"/>
          <p:cNvPicPr/>
          <p:nvPr/>
        </p:nvPicPr>
        <p:blipFill>
          <a:blip r:embed="rId1"/>
          <a:stretch/>
        </p:blipFill>
        <p:spPr>
          <a:xfrm>
            <a:off x="5214960" y="1066680"/>
            <a:ext cx="392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Thomas Nast – Political Cartoonist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pic>
        <p:nvPicPr>
          <p:cNvPr id="134" name="Picture 3" descr="01%20Under%20the%20Thumb"/>
          <p:cNvPicPr/>
          <p:nvPr/>
        </p:nvPicPr>
        <p:blipFill>
          <a:blip r:embed="rId1"/>
          <a:stretch/>
        </p:blipFill>
        <p:spPr>
          <a:xfrm>
            <a:off x="2133720" y="533520"/>
            <a:ext cx="5283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A.  Urban Opportunity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Urbanization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Rapid growth of a city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ho moved into the cities?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Immigrant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Rural American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hy the cities?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Cheap and convenient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job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Cultural diversity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B.  Changing Citie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380880"/>
            <a:ext cx="5790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Building up instead of out = ?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hicago the first skyscraper w/ Home Ins. Building, 1885 10 stories!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88" name="Picture 5" descr="1"/>
          <p:cNvPicPr/>
          <p:nvPr/>
        </p:nvPicPr>
        <p:blipFill>
          <a:blip r:embed="rId1"/>
          <a:stretch/>
        </p:blipFill>
        <p:spPr>
          <a:xfrm>
            <a:off x="2895480" y="3276720"/>
            <a:ext cx="2492640" cy="258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"/>
          <p:cNvPicPr/>
          <p:nvPr/>
        </p:nvPicPr>
        <p:blipFill>
          <a:blip r:embed="rId2"/>
          <a:stretch/>
        </p:blipFill>
        <p:spPr>
          <a:xfrm>
            <a:off x="5867280" y="2971800"/>
            <a:ext cx="1749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680" y="533160"/>
            <a:ext cx="3810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Chicago, 1884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183 ft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28840" y="45684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Dubai, 2009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2,717 ft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93" name="Picture 7" descr="2"/>
          <p:cNvPicPr/>
          <p:nvPr/>
        </p:nvPicPr>
        <p:blipFill>
          <a:blip r:embed="rId1"/>
          <a:stretch/>
        </p:blipFill>
        <p:spPr>
          <a:xfrm>
            <a:off x="1566720" y="1012680"/>
            <a:ext cx="3065760" cy="500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upload.wikimedia.org/wikipedia/en/thumb/2/2f/Burj_Khalifa_building.jpg/180px-Burj_Khalifa_buildin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1050840"/>
            <a:ext cx="33354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C.  Transportation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5120" y="1066680"/>
            <a:ext cx="5790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Development public transportation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Horse car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Street car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L/Subway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Benefits?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97" name="Picture 5" descr="cctrolley"/>
          <p:cNvPicPr/>
          <p:nvPr/>
        </p:nvPicPr>
        <p:blipFill>
          <a:blip r:embed="rId1"/>
          <a:stretch/>
        </p:blipFill>
        <p:spPr>
          <a:xfrm>
            <a:off x="5410080" y="4267080"/>
            <a:ext cx="3448080" cy="21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nostalg5"/>
          <p:cNvPicPr/>
          <p:nvPr/>
        </p:nvPicPr>
        <p:blipFill>
          <a:blip r:embed="rId2"/>
          <a:stretch/>
        </p:blipFill>
        <p:spPr>
          <a:xfrm>
            <a:off x="1600200" y="3886200"/>
            <a:ext cx="3657600" cy="264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ttp://www.cable-car-guy.com/images/last_horse_car_001.jpg"/>
          <p:cNvPicPr/>
          <p:nvPr/>
        </p:nvPicPr>
        <p:blipFill>
          <a:blip r:embed="rId3"/>
          <a:stretch/>
        </p:blipFill>
        <p:spPr>
          <a:xfrm>
            <a:off x="5194440" y="1676520"/>
            <a:ext cx="387972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D. Separation by Clas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High Society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Built wherever they wanted; spared no expense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House servant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Middle Clas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Moved to suburb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Professionals: doctors, lawyers, etc.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Working class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Lived in tenements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Rented space to supplement income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D. Separation by Clas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066320"/>
            <a:ext cx="5790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Times New Roman"/>
                <a:hlinkClick r:id="rId1"/>
              </a:rPr>
              <a:t>http://www.nwhm.org/online-exhibits/progressiveera/tenemen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interiors.htm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04" name="Picture 4" descr="http://ts4.mm.bing.net/images/thumbnail.aspx?q=1337514206967&amp;id=b26ba8db3511c7748e575262609d011d&amp;url=http%3a%2f%2fgraphics8.nytimes.com%2fimages%2f2009%2f09%2f15%2fnyregion%2f15landmarks4-cityroom%2fblogSpan.jpg"/>
          <p:cNvPicPr/>
          <p:nvPr/>
        </p:nvPicPr>
        <p:blipFill>
          <a:blip r:embed="rId2"/>
          <a:stretch/>
        </p:blipFill>
        <p:spPr>
          <a:xfrm>
            <a:off x="1447920" y="2057400"/>
            <a:ext cx="3962160" cy="224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ts2.mm.bing.net/images/thumbnail.aspx?q=1263567311093&amp;id=1e2b5edd992c6127ea84045ebf92795b&amp;url=http%3a%2f%2fmedia.salesaspects.com%2fsalesaspects%2fCore%2f41%2fPersonnel%2f848%2fImageLibrary%2f1419%2520Cass%2520Street-Front%25201.jpg"/>
          <p:cNvPicPr/>
          <p:nvPr/>
        </p:nvPicPr>
        <p:blipFill>
          <a:blip r:embed="rId3"/>
          <a:stretch/>
        </p:blipFill>
        <p:spPr>
          <a:xfrm>
            <a:off x="5238720" y="152280"/>
            <a:ext cx="390528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nwhm.org/media/category/exhibits/progressiveera/tenement1.jpg"/>
          <p:cNvPicPr/>
          <p:nvPr/>
        </p:nvPicPr>
        <p:blipFill>
          <a:blip r:embed="rId4"/>
          <a:stretch/>
        </p:blipFill>
        <p:spPr>
          <a:xfrm>
            <a:off x="5270400" y="3505320"/>
            <a:ext cx="34290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E.  Neighborhoods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pic>
        <p:nvPicPr>
          <p:cNvPr id="109" name="Picture 4" descr="immigration ethic seg"/>
          <p:cNvPicPr/>
          <p:nvPr/>
        </p:nvPicPr>
        <p:blipFill>
          <a:blip r:embed="rId1"/>
          <a:stretch/>
        </p:blipFill>
        <p:spPr>
          <a:xfrm>
            <a:off x="2946240" y="892080"/>
            <a:ext cx="325152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F.  The Family Economy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White native-born men earned more 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In most cases, entire family worked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White native-born women = more educated 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Teachers, clerical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*domestic service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Elderly and disabled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6:49:01Z</dcterms:created>
  <dc:creator>School District U46</dc:creator>
  <dc:description/>
  <cp:keywords/>
  <dc:language>en-US</dc:language>
  <cp:lastModifiedBy>SUPER</cp:lastModifiedBy>
  <dcterms:modified xsi:type="dcterms:W3CDTF">2011-10-16T23:08:01Z</dcterms:modified>
  <cp:revision>21</cp:revision>
  <dc:subject/>
  <dc:title>7.2:  Problems of Urban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41033</vt:lpwstr>
  </property>
</Properties>
</file>